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FFB9-6847-44E8-8EA6-1A2FEF77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8D20-8122-4EC5-B0BF-1B32570D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1F5E-871E-4E4C-8FD7-C717162E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8016-06C4-4999-9092-A5B09381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5D8C-BE6E-4956-8A63-F7E7029D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298F-E355-4192-8624-C381B79D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2270-24F4-44A6-8355-6BA2ED98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64EB-A338-4B0E-BD12-E5148045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8981-67D9-4A3C-9140-9CB24586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D207-DB9D-4F25-BC2C-07A9AD8C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ABB7-3518-483A-9504-5DABC9F8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CEF7-7077-473E-905D-24A6A1FE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94AA-E7BF-4A9D-9072-3234E889C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d7ea9d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194800">
            <a:off x="0" y="1676520"/>
            <a:ext cx="76201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Rounded MT Bold"/>
              </a:rPr>
              <a:t>Cat and Mouse</a:t>
            </a:r>
            <a:endParaRPr b="0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Rounded MT Bold"/>
              <a:ea typeface="Arial Rounded MT Bold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1304400">
            <a:off x="4800240" y="327636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 rot="5400000">
            <a:off x="6514560" y="3771720"/>
            <a:ext cx="3047760" cy="1600200"/>
          </a:xfrm>
          <a:prstGeom prst="leftArrow">
            <a:avLst>
              <a:gd name="adj1" fmla="val 49009"/>
              <a:gd name="adj2" fmla="val 5128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4648320"/>
            <a:ext cx="3276720" cy="1600200"/>
          </a:xfrm>
          <a:prstGeom prst="rightArrow">
            <a:avLst>
              <a:gd name="adj1" fmla="val 50000"/>
              <a:gd name="adj2" fmla="val 51192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14800" y="838080"/>
            <a:ext cx="3200400" cy="1143000"/>
          </a:xfrm>
          <a:prstGeom prst="leftArrow">
            <a:avLst>
              <a:gd name="adj1" fmla="val 50000"/>
              <a:gd name="adj2" fmla="val 700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3581280"/>
            <a:ext cx="1523880" cy="2210040"/>
          </a:xfrm>
          <a:prstGeom prst="downArrow">
            <a:avLst>
              <a:gd name="adj1" fmla="val 50000"/>
              <a:gd name="adj2" fmla="val 3625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609480"/>
            <a:ext cx="1371600" cy="2286000"/>
          </a:xfrm>
          <a:prstGeom prst="upArrow">
            <a:avLst>
              <a:gd name="adj1" fmla="val 50000"/>
              <a:gd name="adj2" fmla="val 41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778 0.24948 C -0.10382 0.23838 -0.13229 0.24254 -0.15868 0.2326 C -0.18993 0.22104 -0.21233 0.20277 -0.23976 0.17965 C -0.24427 0.17595 -0.24636 0.16855 -0.25087 0.16485 C -0.25434 0.16208 -0.28039 0.15329 -0.28264 0.15213 C -0.30608 0.14081 -0.33056 0.12763 -0.35087 0.10774 C -0.35868 0.10011 -0.36511 0.09017 -0.37309 0.08254 C -0.3967 0.06011 -0.41858 0.03445 -0.4349 0.00185 C -0.44827 -0.02451 -0.46754 -0.06682 -0.48577 -0.08671 C -0.49844 -0.10035 -0.5125 -0.11607 -0.52379 -0.1311 C -0.53091 -0.14081 -0.53681 -0.15191 -0.54445 -0.1607 C -0.54827 -0.16509 -0.5533 -0.16671 -0.55712 -0.1711 C -0.56077 -0.17526 -0.56302 -0.18151 -0.56667 -0.1859 C -0.58733 -0.2118 -0.60973 -0.22775 -0.62223 -0.2622 C -0.62622 -0.28948 -0.63177 -0.317 -0.63976 -0.34243 C -0.64566 -0.36185 -0.64584 -0.35561 -0.65087 -0.37411 C -0.65452 -0.38729 -0.65608 -0.40093 -0.65868 -0.41434 C -0.66233 -0.43307 -0.66979 -0.4511 -0.67466 -0.46937 C -0.67986 -0.48856 -0.68768 -0.50682 -0.69202 -0.52625 C -0.69306 -0.5311 -0.69445 -0.53596 -0.69532 -0.54104 C -0.6967 -0.54937 -0.69844 -0.56648 -0.69844 -0.56625 C -0.69757 -0.5896 -0.7007 -0.61711 -0.68577 -0.63422 C -0.68073 -0.64 -0.67049 -0.64417 -0.66511 -0.64694 C -0.66354 -0.64763 -0.66042 -0.64902 -0.66042 -0.64879 C -0.66771 -0.6555 -0.67709 -0.65619 -0.68577 -0.65735 C -0.70747 -0.66035 -0.75087 -0.6659 -0.75087 -0.66567 C -0.75573 -0.64625 -0.75816 -0.62521 -0.76511 -0.60671 C -0.76615 -0.6007 -0.76702 -0.59445 -0.76823 -0.58821 C -0.7691 -0.58336 -0.77066 -0.57943 -0.77153 -0.57503 C -0.77448 -0.56 -0.77414 -0.54382 -0.77622 -0.52856 C -0.77726 -0.52 -0.7783 -0.51168 -0.77934 -0.50313 C -0.77986 -0.49896 -0.78091 -0.49041 -0.78091 -0.49018 C -0.7816 -0.44393 -0.7842 -0.39746 -0.7842 -0.35099 C -0.7842 -0.32625 -0.84584 0.01526 -0.74931 0.09526 C -0.725 0.09456 -0.70052 0.0941 -0.67622 0.09294 C -0.66337 0.09225 -0.6507 0.08739 -0.6382 0.08462 C -0.60643 0.07722 -0.57344 0.07537 -0.54132 0.0719 C -0.52934 0.0682 -0.51684 0.06751 -0.50486 0.06335 C -0.45417 0.04555 -0.38438 0.00161 -0.36354 -0.06775 C -0.35712 -0.08856 -0.35295 -0.10891 -0.34931 -0.1311 C -0.34236 -0.22336 -0.38247 -0.28648 -0.4191 -0.35723 C -0.42552 -0.36972 -0.43195 -0.38289 -0.4382 -0.39538 C -0.44219 -0.40347 -0.44358 -0.41272 -0.44757 -0.42058 C -0.44618 -0.45018 -0.44497 -0.49041 -0.44289 -0.51792 C -0.44184 -0.5318 -0.42813 -0.53573 -0.42066 -0.53896 C -0.4092 -0.54405 -0.39775 -0.55145 -0.38577 -0.55376 C -0.36893 -0.557 -0.35191 -0.55954 -0.3349 -0.56232 C -0.27813 -0.58359 -0.2132 -0.58336 -0.15556 -0.58544 C -0.11841 -0.59214 -0.10243 -0.59261 -0.05712 -0.59445 C -0.05243 -0.59353 -0.0375 -0.59353 -0.03021 -0.58983 C -0.01858 -0.58382 -0.00868 -0.57388 0.00312 -0.56856 C 0.00746 -0.55977 0.01059 -0.55977 0.01423 -0.5496 C 0.01146 -0.50798 0.00069 -0.49619 -0.01268 -0.46081 C -0.0224 -0.43492 -0.02934 -0.40486 -0.04132 -0.38058 C -0.05348 -0.35607 -0.06354 -0.33735 -0.07778 -0.31492 C -0.08073 -0.31029 -0.08525 -0.30798 -0.08889 -0.30451 C -0.09948 -0.29341 -0.1099 -0.28301 -0.12066 -0.27261 C -0.13125 -0.26243 -0.14045 -0.25688 -0.14931 -0.24509 C -0.16841 -0.21966 -0.18004 -0.18197 -0.18733 -0.14798 C -0.18941 -0.13804 -0.1915 -0.12833 -0.19375 -0.11839 C -0.19479 -0.11422 -0.19688 -0.10567 -0.19688 -0.10544 C -0.19792 -0.09365 -0.19983 -0.08185 -0.2 -0.06983 C -0.20035 -0.04093 -0.20764 0.0326 -0.18264 0.06127 C -0.17535 0.06959 -0.16684 0.07398 -0.15868 0.08046 C -0.14462 0.09109 -0.15434 0.0867 -0.14445 0.09086 C -0.14341 0.09225 -0.14254 0.0941 -0.14132 0.09526 C -0.13976 0.09687 -0.13664 0.09687 -0.13646 0.09942 C -0.13611 0.1045 -0.13854 0.10936 -0.13976 0.11422 C -0.14028 0.11607 -0.14028 0.11861 -0.14132 0.12046 C -0.14358 0.12439 -0.14931 0.13109 -0.14931 0.13133 C -0.14879 0.14104 -0.14879 0.15098 -0.14757 0.16069 C -0.1467 0.16716 -0.14063 0.17526 -0.1382 0.17965 C -0.13091 0.19237 -0.12118 0.20231 -0.11268 0.21364 C -0.10452 0.20208 -0.10608 0.20624 -0.13334 0.21133 C -0.14445 0.21341 -0.15591 0.22011 -0.16667 0.22404 C -0.16979 0.2252 -0.17309 0.2252 -0.17622 0.22612 C -0.17848 0.22659 -0.18056 0.22774 -0.18264 0.22844 C -0.19636 0.22705 -0.21007 0.22635 -0.22379 0.22404 C -0.23681 0.22196 -0.24601 0.21294 -0.25712 0.20508 C -0.26858 0.19699 -0.28073 0.19098 -0.29202 0.18173 C -0.31042 0.1667 -0.32743 0.1482 -0.34445 0.13109 C -0.37466 0.10011 -0.40625 0.07422 -0.43334 0.03815 C -0.45295 0.01202 -0.43334 0.03537 -0.45087 0.00416 C -0.454 -0.00139 -0.45868 -0.00532 -0.46198 -0.01064 C -0.47587 -0.03307 -0.48559 -0.05434 -0.49688 -0.07839 C -0.50365 -0.09226 -0.51476 -0.10867 -0.52223 -0.12047 C -0.52969 -0.13226 -0.5349 -0.14613 -0.54132 -0.15862 C -0.55313 -0.18197 -0.57379 -0.19885 -0.58889 -0.21781 C -0.60417 -0.23677 -0.61719 -0.25758 -0.63177 -0.277 C -0.63403 -0.2844 -0.63768 -0.29064 -0.63976 -0.29827 C -0.64167 -0.30474 -0.64167 -0.31214 -0.64289 -0.31908 C -0.64184 -0.35168 -0.64219 -0.36602 -0.6349 -0.39307 C -0.63229 -0.41711 -0.62709 -0.4407 -0.62535 -0.46498 C -0.62396 -0.48486 -0.62639 -0.53018 -0.62066 -0.54544 C -0.61285 -0.56648 -0.59427 -0.58289 -0.57778 -0.58821 C -0.56007 -0.59954 -0.56771 -0.5963 -0.55556 -0.6007 C -0.53594 -0.61341 -0.51337 -0.62081 -0.49202 -0.62775 C -0.43021 -0.62706 -0.36702 -0.63977 -0.30643 -0.62359 C -0.28403 -0.61781 -0.25782 -0.61018 -0.23646 -0.59815 C -0.2217 -0.58983 -0.20764 -0.58035 -0.19202 -0.57503 C -0.17361 -0.56856 -0.15677 -0.56578 -0.1382 -0.56232 C -0.10348 -0.56417 -0.06754 -0.5681 -0.03334 -0.57711 C -0.02275 -0.57642 -0.01216 -0.57619 -0.00157 -0.57503 C 0.01684 -0.57295 0.02534 -0.5496 0.03646 -0.5348 C 0.03975 -0.52185 0.04618 -0.51099 0.05069 -0.49896 C 0.05243 -0.48833 0.05382 -0.47769 0.05555 -0.46706 C 0.05642 -0.46128 0.05868 -0.45018 0.05868 -0.44995 C 0.05711 -0.43261 0.05607 -0.41503 0.05399 -0.39746 C 0.05052 -0.36787 0.03698 -0.33827 0.02847 -0.31076 C 0.01909 -0.28 0.01284 -0.24324 0.00156 -0.21341 C -0.00625 -0.19261 -0.01563 -0.17295 -0.02379 -0.15214 C -0.02969 -0.13688 -0.03854 -0.12393 -0.04601 -0.10983 C -0.06268 -0.07792 -0.079 -0.02937 -0.08733 0.00855 C -0.08872 0.03144 -0.09028 0.03976 -0.08733 0.06335 C -0.08559 0.07676 -0.07014 0.09109 -0.06198 0.09734 C -0.05052 0.10566 -0.03959 0.11306 -0.02865 0.12254 C -0.02639 0.12439 -0.02448 0.1267 -0.02223 0.12901 C -0.0191 0.13202 -0.01268 0.13734 -0.01268 0.13757 C -0.01059 0.1415 -0.00521 0.1452 -0.00643 0.15005 C -0.0099 0.16416 -0.01389 0.17826 -0.01754 0.19237 C -0.01823 0.19514 -0.02101 0.1963 -0.02223 0.19884 C -0.02917 0.21202 -0.02101 0.20346 -0.03021 0.21133 C -0.03664 0.2289 -0.02865 0.21179 -0.04132 0.22404 C -0.04289 0.22543 -0.04306 0.2289 -0.04445 0.23052 C -0.04966 0.2363 -0.06389 0.243 -0.06823 0.24531 C -0.07066 0.2467 -0.07223 0.24994 -0.07466 0.25156 C -0.07761 0.25341 -0.08108 0.25433 -0.0842 0.25572 C -0.09757 0.2682 -0.11598 0.26844 -0.13177 0.27283 C -0.14445 0.2763 -0.15573 0.2837 -0.16823 0.28763 C -0.19115 0.29502 -0.21476 0.30081 -0.2382 0.3045 C -0.26719 0.30219 -0.30504 0.30335 -0.33646 0.29387 C -0.36042 0.28647 -0.38525 0.27306 -0.40955 0.26844 C -0.42795 0.26474 -0.4467 0.26358 -0.46511 0.26011 C -0.47309 0.25872 -0.48889 0.25572 -0.48889 0.25595 C -0.49966 0.25156 -0.5099 0.2504 -0.52066 0.24739 C -0.53073 0.24439 -0.53907 0.23907 -0.54931 0.23676 C -0.56563 0.22959 -0.57986 0.22797 -0.59688 0.22612 C -0.60747 0.22312 -0.61806 0.22057 -0.62865 0.2178 C -0.63125 0.21711 -0.63386 0.21641 -0.63646 0.21572 C -0.63907 0.21502 -0.64445 0.21364 -0.64445 0.21387 C -0.654 0.20693 -0.66424 0.20739 -0.67466 0.20508 C -0.70052 0.19352 -0.73039 0.19422 -0.75712 0.19237 C -0.76459 0.19052 -0.7691 0.18635 -0.77622 0.18381 C -0.78664 0.16254 -0.78664 0.13502 -0.78889 0.11005 C -0.78768 0.07861 -0.79045 0.02381 -0.77622 -0.00833 C -0.75834 -0.04902 -0.73143 -0.07145 -0.7 -0.09087 C -0.6842 -0.10081 -0.66893 -0.11284 -0.65243 -0.12047 C -0.63438 -0.12879 -0.61007 -0.1355 -0.59375 -0.14613 C -0.57188 -0.16 -0.54636 -0.16578 -0.52223 -0.16902 C -0.47084 -0.18682 -0.41598 -0.17665 -0.36354 -0.17758 C -0.3566 -0.18197 -0.34948 -0.18266 -0.34289 -0.18821 C -0.32674 -0.20185 -0.31164 -0.2259 -0.29375 -0.23261 C -0.28611 -0.24208 -0.28264 -0.24509 -0.27778 -0.25781 C -0.27726 -0.26174 -0.27361 -0.28787 -0.27309 -0.28948 C -0.27136 -0.29457 -0.25191 -0.32532 -0.25087 -0.32763 C -0.24827 -0.33318 -0.24566 -0.33896 -0.24289 -0.34451 C -0.23976 -0.35076 -0.23768 -0.35469 -0.23334 -0.35931 C -0.23056 -0.36232 -0.22379 -0.36602 -0.22379 -0.36602 E">
                                      <p:cBhvr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38 0.09457 C 0.00521 0.10289 -0.0191 0.11283 -0.0441 0.11977 C -0.06788 0.12624 -0.09323 0.12671 -0.11719 0.12832 C -0.15035 0.12555 -0.18194 0.12462 -0.21406 0.11353 C -0.24271 0.10358 -0.26875 0.08647 -0.29514 0.06913 C -0.31944 0.05295 -0.34306 0.03653 -0.36493 0.0141 C -0.36788 0.0148 -0.37135 0.01434 -0.37431 0.01619 C -0.37986 0.01965 -0.39653 0.05503 -0.39965 0.06058 C -0.41059 0.07931 -0.41736 0.09711 -0.42535 0.11769 C -0.4316 0.1348 -0.44132 0.14913 -0.4474 0.16647 C -0.44983 0.17341 -0.45122 0.18081 -0.45365 0.18751 C -0.45799 0.19977 -0.46319 0.21133 -0.46788 0.22335 C -0.47517 0.24162 -0.48247 0.27168 -0.48542 0.29318 C -0.48681 0.30289 -0.48854 0.32277 -0.48854 0.32301 C -0.48802 0.33757 -0.48872 0.3526 -0.48698 0.36717 C -0.48524 0.3822 -0.47535 0.40717 -0.46962 0.42012 C -0.46528 0.44116 -0.45781 0.46104 -0.45208 0.48139 C -0.44983 0.48971 -0.44983 0.49873 -0.4474 0.50682 C -0.44705 0.50798 -0.43646 0.53549 -0.43472 0.54058 C -0.43351 0.54335 -0.43247 0.54613 -0.43142 0.5489 C -0.43038 0.55168 -0.4283 0.55746 -0.4283 0.55769 C -0.42535 0.57827 -0.41632 0.60717 -0.40764 0.6252 C -0.40486 0.63977 -0.40799 0.62775 -0.40122 0.64208 C -0.39323 0.65896 -0.4026 0.64277 -0.39497 0.65688 C -0.39219 0.6622 -0.38819 0.66636 -0.38542 0.67168 C -0.38403 0.67422 -0.38385 0.67792 -0.38229 0.68 C -0.38056 0.68231 -0.37795 0.68277 -0.37587 0.68439 C -0.36649 0.69225 -0.35816 0.69734 -0.3474 0.70127 C -0.33906 0.70428 -0.33212 0.70936 -0.32361 0.71168 C -0.275 0.73896 -0.225 0.73387 -0.17274 0.73503 C -0.16858 0.73572 -0.16424 0.73572 -0.16007 0.73711 C -0.15573 0.7385 -0.15191 0.74243 -0.1474 0.74358 C -0.11215 0.7526 -0.07535 0.75607 -0.03941 0.75838 C 0.05851 0.75607 0.16111 0.78358 0.25434 0.74358 C 0.25608 0.74382 0.27031 0.74636 0.27326 0.74751 C 0.27483 0.74867 0.27639 0.75098 0.27812 0.75191 C 0.28229 0.75376 0.2908 0.75607 0.2908 0.7563 C 0.29392 0.75538 0.29757 0.75607 0.30035 0.75399 C 0.30174 0.75283 0.30087 0.7496 0.30191 0.74751 C 0.3066 0.73665 0.31128 0.72486 0.31597 0.71399 C 0.32604 0.66705 0.31354 0.72208 0.3224 0.69064 C 0.32639 0.67653 0.32726 0.65595 0.32865 0.64208 C 0.33073 0.59399 0.3349 0.54636 0.33681 0.49827 C 0.33194 0.34728 0.33767 0.40046 0.33038 0.33757 C 0.32726 0.27538 0.32743 0.2141 0.33038 0.15168 C 0.33177 0.12347 0.33212 0.09526 0.33368 0.06705 C 0.33385 0.06289 0.33767 0.04809 0.33837 0.04578 C 0.33889 0.0437 0.33976 0.03954 0.33976 0.03977 C 0.33871 -0.02474 0.35243 -0.03838 0.31771 -0.05341 C 0.31146 -0.05896 0.30556 -0.05896 0.29861 -0.06197 C 0.29219 -0.06127 0.28576 -0.06173 0.27969 -0.05988 C 0.27656 -0.05896 0.26806 -0.04971 0.26545 -0.04717 C 0.25069 -0.03329 0.23785 -0.01827 0.22413 -0.00277 C 0.19653 0.02844 0.16788 0.05757 0.13993 0.08809 C 0.10885 0.12162 0.08316 0.16601 0.05243 0.20023 C 0.02431 0.23145 -0.00469 0.26127 -0.03455 0.28902 C -0.06042 0.31283 -0.04045 0.29965 -0.06788 0.32069 C -0.10469 0.34867 -0.14254 0.37295 -0.1776 0.40532 C -0.20851 0.43399 -0.23941 0.46243 -0.27135 0.48971 C -0.27674 0.49434 -0.28142 0.50035 -0.28698 0.50451 C -0.29635 0.51121 -0.30625 0.51584 -0.3158 0.52162 C -0.33056 0.53064 -0.3441 0.54312 -0.35851 0.55329 C -0.38576 0.57272 -0.40885 0.60046 -0.43472 0.62289 C -0.44809 0.63468 -0.45625 0.65341 -0.47118 0.66312 C -0.47743 0.67376 -0.48872 0.68647 -0.49809 0.69272 C -0.50365 0.70428 -0.5191 0.72116 -0.5283 0.72879 C -0.53715 0.73619 -0.54618 0.74012 -0.55208 0.75191 C -0.5316 0.76254 -0.53993 0.76023 -0.49965 0.74983 C -0.43472 0.73318 -0.3842 0.70983 -0.32188 0.67792 C -0.23576 0.63399 -0.17361 0.57526 -0.10122 0.50035 C -0.07795 0.4763 -0.05556 0.44994 -0.03646 0.42012 C -0.02743 0.40601 -0.01875 0.39145 -0.0092 0.3778 C 0.04271 0.30266 0.07187 0.25827 0.10816 0.17064 C 0.13681 0.10104 0.14705 0.02173 0.16371 -0.05341 C 0.17083 -0.08555 0.17187 -0.14266 0.20035 -0.15491 C 0.2125 -0.15353 0.22465 -0.1526 0.23681 -0.15075 C 0.23837 -0.15052 0.2401 -0.15029 0.24149 -0.14867 C 0.24549 -0.14335 0.2467 -0.1348 0.25087 -0.12948 C 0.26007 -0.11769 0.25642 -0.12277 0.26198 -0.11468 C 0.26285 -0.11376 0.28698 -0.10936 0.29219 -0.10844 C 0.30486 -0.10289 0.31076 -0.10636 0.32413 -0.10636 E">
                                      <p:cBhvr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0.30104 C -0.06597 -0.29295 -0.11493 -0.27306 -0.11493 -0.25711 C -0.11493 -0.24254 -0.06701 -0.23168 -0.00295 -0.23168 C 0.06094 -0.23168 0.11493 -0.24254 0.11493 -0.25711 C 0.11493 -0.27306 0.05903 -0.27699 -0.00503 -0.26636 C -0.06805 -0.25433 -0.11493 -0.23445 -0.11493 -0.21988 C -0.11493 -0.20509 -0.06597 -0.19306 -0.00295 -0.19306 C 0.06094 -0.19306 0.11493 -0.20509 0.11493 -0.21988 C 0.11493 -0.23445 0.05903 -0.23838 -0.00399 -0.22774 C -0.06805 -0.21711 -0.11493 -0.19722 -0.11493 -0.18243 C -0.11493 -0.16647 -0.06597 -0.15445 -0.00208 -0.15445 C 0.06094 -0.15445 0.11493 -0.16647 0.11493 -0.18243 C 0.11493 -0.19584 0.05903 -0.19977 -0.00399 -0.19052 C -0.06701 -0.17988 -0.11493 -0.15861 -0.11493 -0.14381 C -0.11493 -0.12925 -0.06493 -0.11722 -0.00208 -0.11722 C 0.06302 -0.11722 0.11493 -0.12925 0.11493 -0.14381 C 0.11493 -0.15861 0.06007 -0.16254 -0.00295 -0.15191 C -0.06597 -0.14127 -0.11493 -0.12116 -0.11493 -0.10659 C -0.11493 -0.09064 -0.06493 -0.08 -0.00104 -0.08 C 0.06302 -0.08 0.11493 -0.09202 0.11493 -0.10659 C 0.11493 -0.12116 0.06007 -0.12532 -0.00295 -0.11468 C -0.06597 -0.10381 -0.11493 -0.08254 -0.11493 -0.06936 C -0.11493 -0.05457 -0.06406 -0.04277 -0.00104 -0.04277 C 0.06302 -0.04277 0.11493 -0.05457 0.11493 -0.06936 C 0.11493 -0.08254 0.06094 -0.0867 -0.00295 -0.07722 C -0.06597 -0.06659 -0.11493 -0.04532 -0.11493 -0.03075 C -0.11493 -0.01734 -0.06406 -0.00416 -2.22222E-006 -0.00416 C 0.06406 -0.00416 0.11493 -0.01595 0.11493 -0.03075 C 0.11493 -0.04532 0.06094 -0.04925 -0.00208 -0.03861 C -0.06493 -0.02798 -0.11597 -0.00809 -0.11493 0.00671 C -0.11406 0.02127 -0.06406 0.03191 -2.22222E-006 0.03191 C 0.06406 0.03191 0.11493 0.01989 0.11493 0.00532 C 0.11493 -0.00809 0.06302 -0.01202 -2.22222E-006 -6.93642E-007 E">
                                      <p:cBhvr>
                                        <p:cTn id="27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16 0.0911 C 0.08159 0.0881 0.03073 0.07746 -0.02066 0.07214 C -0.02587 0.07006 -0.0316 0.06937 -0.03646 0.0659 C -0.04584 0.05896 -0.05313 0.04232 -0.06042 0.03168 C -0.0665 0.00925 -0.05643 0.04255 -0.06667 0.02151 C -0.07466 0.00555 -0.06893 0.01133 -0.07309 0.00023 C -0.07743 -0.01086 -0.08195 -0.02173 -0.08733 -0.03144 C -0.09254 -0.05202 -0.10226 -0.06936 -0.10955 -0.08855 C -0.11285 -0.09734 -0.11372 -0.10266 -0.1191 -0.10959 C -0.12118 -0.11653 -0.1217 -0.12393 -0.12379 -0.13086 C -0.125 -0.13456 -0.12743 -0.13757 -0.12865 -0.14127 C -0.14306 -0.18266 -0.12344 -0.13572 -0.13976 -0.17318 C -0.14184 -0.18728 -0.14098 -0.18404 -0.14601 -0.20046 C -0.14914 -0.2104 -0.15573 -0.23005 -0.15573 -0.23005 C -0.15729 -0.24624 -0.16007 -0.26127 -0.16354 -0.27676 C -0.16545 -0.29503 -0.16702 -0.31352 -0.16979 -0.33179 C -0.17205 -0.36508 -0.17101 -0.39653 -0.16511 -0.4289 C -0.16285 -0.45526 -0.16042 -0.46011 -0.14757 -0.47745 C -0.14011 -0.48763 -0.14427 -0.48485 -0.13646 -0.48809 C -0.12882 -0.49826 -0.11962 -0.50474 -0.10955 -0.50936 C -0.09792 -0.51977 -0.08351 -0.52346 -0.06979 -0.52601 C -0.06285 -0.5274 -0.04914 -0.5304 -0.04914 -0.5304 C -0.03854 -0.52971 -0.02795 -0.52994 -0.01754 -0.52855 C -0.00886 -0.52693 -0.00122 -0.5156 0.00642 -0.51121 C 0.01302 -0.50728 0.02031 -0.50543 0.02673 -0.50081 C 0.03333 -0.49641 0.03698 -0.49063 0.04427 -0.48809 C 0.05069 -0.47537 0.05972 -0.46589 0.06493 -0.45225 C 0.07378 -0.42844 0.07552 -0.40208 0.08229 -0.37803 C 0.08871 -0.3563 0.09444 -0.33456 0.09982 -0.3126 C 0.10468 -0.29341 0.11284 -0.27514 0.11753 -0.25549 C 0.12326 -0.23098 0.12621 -0.20555 0.13316 -0.1815 C 0.13507 -0.16647 0.13993 -0.15352 0.146 -0.14127 C 0.14722 -0.13872 0.14739 -0.13503 0.14913 -0.13294 C 0.1585 -0.12277 0.16128 -0.12185 0.16979 -0.11815 C 0.18541 -0.11977 0.19027 -0.12092 0.20312 -0.12647 C 0.20816 -0.13109 0.21302 -0.13595 0.21753 -0.14127 C 0.22152 -0.15237 0.22673 -0.16185 0.23021 -0.17318 C 0.23246 -0.19075 0.23298 -0.20832 0.23489 -0.22589 C 0.23437 -0.23838 0.23541 -0.31005 0.22864 -0.33803 C 0.21128 -0.41017 0.16041 -0.4474 0.10798 -0.46266 C 0.0743 -0.47237 0.04045 -0.47815 0.00642 -0.48624 C -0.01372 -0.49063 -0.03403 -0.4904 -0.054 -0.49225 C -0.06042 -0.49294 -0.07309 -0.49433 -0.07309 -0.49433 C -0.10695 -0.49387 -0.1408 -0.49456 -0.17466 -0.49225 C -0.20973 -0.49017 -0.24445 -0.45595 -0.27466 -0.43514 C -0.27691 -0.43052 -0.28039 -0.42728 -0.28264 -0.42242 C -0.28629 -0.41364 -0.28733 -0.40069 -0.28889 -0.39075 C -0.29254 -0.36855 -0.29462 -0.34566 -0.29705 -0.32346 C -0.30087 -0.28439 -0.30851 -0.24624 -0.31129 -0.20693 C -0.31337 -0.17156 -0.31372 -0.13711 -0.32223 -0.10335 C -0.32344 -0.09318 -0.32448 -0.08346 -0.32691 -0.07375 C -0.329 -0.05133 -0.33021 -0.03699 -0.33021 -0.01248 C -0.33021 0.01087 -0.33004 0.03422 -0.32865 0.05734 C -0.3283 0.06428 -0.32448 0.07006 -0.32223 0.0763 C -0.29983 0.14012 -0.23907 0.12763 -0.19532 0.12925 C -0.18056 0.12971 -0.16563 0.13064 -0.15087 0.13133 C -0.11372 0.13341 -0.07709 0.13781 -0.03976 0.13966 C -0.00938 0.14382 0.02066 0.13966 0.05069 0.13341 C 0.06319 0.12324 0.05625 0.12971 0.07135 0.11445 C 0.07708 0.10821 0.08159 0.09503 0.08559 0.08694 C 0.09896 0.06035 0.11163 0.03561 0.12864 0.01295 C 0.1368 0.00185 0.14791 -0.01063 0.15868 -0.01664 C 0.16493 -0.02011 0.17205 -0.02057 0.17777 -0.0252 C 0.18715 -0.0326 0.19982 -0.04069 0.20798 -0.0504 C 0.21527 -0.05942 0.22014 -0.0689 0.22691 -0.07792 C 0.23107 -0.09387 0.22517 -0.07445 0.23333 -0.09086 C 0.23541 -0.09503 0.23836 -0.10451 0.23975 -0.10959 C 0.2401 -0.1304 0.23159 -0.19815 0.24739 -0.23005 C 0.2493 -0.23745 0.25173 -0.24416 0.25399 -0.25133 C 0.25642 -0.25896 0.25677 -0.26543 0.26024 -0.27237 C 0.26041 -0.27352 0.26267 -0.28531 0.26354 -0.28716 C 0.26545 -0.29156 0.26979 -0.29988 0.26979 -0.29988 C 0.27569 -0.33248 0.2967 -0.35676 0.30468 -0.38867 C 0.30364 -0.39792 0.30451 -0.40809 0.30156 -0.41618 C 0.29722 -0.4282 0.2868 -0.43399 0.27934 -0.44162 C 0.24496 -0.47699 0.19843 -0.4904 0.15711 -0.50705 C 0.11961 -0.52231 0.08194 -0.53202 0.04427 -0.54728 C -0.00851 -0.56855 -0.05973 -0.59491 -0.11268 -0.61479 C -0.12604 -0.61988 -0.13889 -0.62867 -0.15243 -0.6319 C -0.18872 -0.64023 -0.22344 -0.64508 -0.26025 -0.64878 C -0.30191 -0.6467 -0.28837 -0.64855 -0.3158 -0.64439 C -0.32483 -0.643 -0.34289 -0.64023 -0.34289 -0.64023 C -0.35643 -0.63514 -0.36858 -0.62705 -0.38247 -0.62335 C -0.3941 -0.61318 -0.38837 -0.61595 -0.39844 -0.61271 C -0.4007 -0.60994 -0.40261 -0.60693 -0.40469 -0.60439 C -0.40625 -0.60277 -0.40834 -0.60208 -0.40973 -0.6 C -0.41181 -0.5963 -0.41233 -0.59144 -0.41424 -0.58751 C -0.41771 -0.57341 -0.42535 -0.55815 -0.43021 -0.5452 C -0.4382 -0.52416 -0.44514 -0.50312 -0.45243 -0.48162 C -0.45434 -0.47583 -0.45747 -0.47098 -0.45868 -0.46474 C -0.47726 -0.36994 -0.48021 -0.27029 -0.49045 -0.17318 C -0.49723 -0.10959 -0.51268 -0.04901 -0.51754 0.01503 C -0.51702 0.03492 -0.51893 0.10706 -0.50643 0.13549 C -0.4941 0.16347 -0.47361 0.17734 -0.454 0.19469 C -0.41545 0.22867 -0.37136 0.25041 -0.32535 0.25596 C -0.29844 0.25388 -0.27153 0.25295 -0.24445 0.24971 C -0.2066 0.24486 -0.16979 0.23191 -0.13177 0.22867 C -0.10903 0.22428 -0.08646 0.2185 -0.06372 0.21573 C -0.03004 0.20555 0.000690000000000003 0.19584 0.03333 0.18197 C 0.06493 0.16833 0.08836 0.13411 0.11267 0.1059 C 0.12534 0.0911 0.13923 0.07838 0.15086 0.06151 C 0.16684 0.03792 0.18003 0.0118 0.19531 -0.01248 C 0.20711 -0.03144 0.21215 -0.05641 0.22378 -0.07607 C 0.24496 -0.11167 0.26909 -0.14358 0.29045 -0.17942 C 0.29305 -0.18381 0.30798 -0.20716 0.30798 -0.20925 L 0.00312 -0.33364 L 0.06979 0.00879 L 0.30798 -0.23653 L -0.28733 -0.45433 L -0.29844 -0.0104 L 0.03489 -0.07167 L -0.16667 -0.2326 E">
                                      <p:cBhvr>
                                        <p:cTn id="31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74 -0.22358 C -0.14549 -0.18775 -0.14375 -0.16509 -0.14271 -0.12624 C -0.14115 0.09179 -0.14063 0.41526 -0.13785 0.61572 C -0.13785 0.62081 -0.12188 0.62358 -0.12032 0.62405 C -0.05521 0.62266 0.00989 0.62266 0.075 0.61988 C 0.15434 0.61665 0.23385 0.60185 0.31284 0.59445 C 0.38489 0.58775 0.37222 0.59006 0.46545 0.58821 C 0.53923 0.57619 0.61319 0.57873 0.68767 0.57757 C 0.70798 0.57364 0.72934 0.57803 0.74965 0.57341 C 0.75225 0.57272 0.7467 0.5674 0.74479 0.56486 C 0.7434 0.56301 0.74149 0.56231 0.7401 0.56069 C 0.73576 0.55538 0.73142 0.54936 0.72743 0.54382 C 0.71753 0.53064 0.70868 0.5163 0.70017 0.5015 C 0.68836 0.48046 0.68246 0.45572 0.675 0.43168 C 0.67066 0.41827 0.66614 0.40532 0.66232 0.39168 C 0.66007 0.38335 0.6592 0.3741 0.65573 0.36624 C 0.65 0.35237 0.64479 0.33873 0.63993 0.32393 C 0.63611 0.29734 0.64236 0.33364 0.63211 0.29642 C 0.62951 0.28671 0.62795 0.27676 0.62569 0.26682 C 0.62465 0.26127 0.62257 0.24994 0.62257 0.24994 C 0.61875 0.20971 0.61458 0.16948 0.60989 0.12948 C 0.60764 0.10983 0.60764 0.08994 0.60521 0.07029 C 0.60225 0.04763 0.60069 0.02197 0.59409 0.00046 C 0.5908 -0.0104 0.58298 -0.03121 0.58298 -0.03121 C 0.58107 -0.04347 0.57812 -0.04948 0.57031 -0.05665 C 0.56527 -0.0659 0.56093 -0.07075 0.55277 -0.07353 C 0.53142 -0.06173 0.51892 -0.02636 0.50677 -0.00162 C 0.47673 0.05919 0.44618 0.11861 0.41475 0.17803 C 0.39132 0.22197 0.36441 0.26266 0.34149 0.30705 C 0.29739 0.39191 0.25069 0.47422 0.20816 0.56069 C 0.19132 0.59561 0.16979 0.62497 0.15121 0.65803 C 0.13229 0.69179 0.11562 0.72763 0.09722 0.76162 C 0.0908 0.77318 0.0875 0.78751 0.07968 0.79746 C 0.07534 0.78983 0.07257 0.78335 0.07014 0.77434 C 0.06875 0.76023 0.06649 0.74844 0.06545 0.7341 C 0.06961 0.54867 0.0684 0.36324 0.07795 0.17803 C 0.07934 0.12301 0.07934 0.06798 0.08125 0.01318 C 0.08125 0.01087 0.08211 0.01757 0.08298 0.01965 C 0.08455 0.02405 0.08698 0.02821 0.08906 0.03214 C 0.09253 0.03815 0.0967 0.04324 0.10017 0.04925 C 0.11146 0.06867 0.12118 0.09017 0.1335 0.10844 C 0.1585 0.14451 0.18142 0.18289 0.20816 0.21619 C 0.26215 0.28324 0.31805 0.3452 0.38455 0.3896 C 0.42152 0.4141 0.40208 0.40231 0.44791 0.42751 C 0.46146 0.43491 0.47534 0.44092 0.48593 0.45503 C 0.49132 0.41827 0.48819 0.38012 0.49236 0.34289 C 0.49132 0.30127 0.49097 0.25965 0.48923 0.21827 C 0.48819 0.19723 0.47934 0.1741 0.47343 0.15491 C 0.4625 0.12 0.44687 0.08486 0.42899 0.05549 C 0.42291 0.04532 0.41788 0.03306 0.40972 0.0259 C 0.39166 0.00948 0.37656 -0.00763 0.35729 -0.02266 C 0.34218 -0.03445 0.32725 -0.04555 0.30989 -0.04809 C 0.30399 -0.0474 0.29809 -0.0474 0.29253 -0.04601 C 0.27569 -0.04162 0.27048 -0.00809 0.26545 0.00902 C 0.2618 0.04416 0.26319 0.02867 0.26059 0.05549 C 0.2618 0.09896 0.25989 0.13965 0.27656 0.17803 C 0.29218 0.2141 0.31336 0.24162 0.33507 0.27121 C 0.34739 0.28763 0.36302 0.30081 0.375 0.31769 C 0.40434 0.35931 0.42396 0.40555 0.44166 0.45711 C 0.44705 0.47353 0.45538 0.48832 0.4592 0.50566 C 0.49618 0.45642 0.52743 0.40185 0.55277 0.34081 C 0.55573 0.33364 0.55989 0.3274 0.56232 0.31977 C 0.57673 0.27538 0.58142 0.23052 0.5908 0.18451 C 0.59357 0.14751 0.59566 0.11145 0.59722 0.07445 C 0.596 0.06104 0.596 0.04763 0.59409 0.03445 C 0.5901 0.00902 0.58246 -0.01873 0.57031 -0.03954 C 0.5618 -0.0541 0.55538 -0.07006 0.54166 -0.07353 C 0.53368 -0.08116 0.52569 -0.08509 0.51632 -0.08832 C 0.51093 -0.08763 0.50538 -0.08832 0.50017 -0.08624 C 0.49514 -0.08416 0.48281 -0.06705 0.47968 -0.06081 C 0.47916 -0.05803 0.47864 -0.05503 0.47795 -0.05225 C 0.47708 -0.04925 0.47552 -0.04694 0.475 -0.04393 C 0.47343 -0.03769 0.47309 -0.03121 0.47187 -0.02474 C 0.46909 0.02844 0.46458 0.08069 0.46059 0.13364 C 0.41562 -0.00323999999999999 0.30729 -0.02566 0.20677 -0.03746 C 0.18507 -0.03538 0.16284 -0.03723 0.14149 -0.03121 C 0.05052 -0.00509 -0.04358 0.0726 -0.07587 0.19283 C -0.07344 0.21318 -0.07431 0.23514 -0.06806 0.2541 C -0.06181 0.27214 -0.02066 0.28694 -0.01407 0.29017 C 0.021 0.2874 0.05642 0.28971 0.0908 0.28162 C 0.17691 0.26173 0.27743 0.18913 0.31927 0.08301 C 0.32656 0.06451 0.33003 0.04347 0.33507 0.02382 C 0.3283 -0.01202 0.3276 -0.0511 0.31475 -0.08393 C 0.30764 -0.10173 0.29166 -0.11075 0.27812 -0.12 C 0.23246 -0.15098 0.20798 -0.14497 0.1559 -0.1496 C 0.06128 -0.13364 -0.02726 -0.1059 -0.11094 -0.03954 C -0.14775 -0.01017 -0.16979 0.02451 -0.19809 0.06405 C -0.20313 0.08578 -0.20955 0.09549 -0.19809 0.11676 C -0.19566 0.12116 -0.1908 0.12116 -0.18698 0.12324 C -0.11007 0.11121 -0.13316 0.12486 -0.07257 0.08301 C -0.06129 0.07514 -0.04966 0.06751 -0.03924 0.05757 C -0.02205 0.04139 -0.0066 0.02243 0.00989 0.00486 C 0.01198 0.00254 0.01771 -0.00439 0.01614 -0.00162 C 0.00798 0.01318 0.0059 0.01619 -0.00278 0.03861 C -0.00799 0.05225 -0.01285 0.06659 -0.01702 0.08092 C -0.029 0.12231 -0.02778 0.12509 -0.03299 0.16532 C -0.02813 0.20162 -0.03021 0.22936 -0.00122 0.24162 C 0.00468 0.24416 0.01146 0.24439 0.01771 0.24578 C 0.03472 0.2437 0.05208 0.24416 0.06857 0.23931 C 0.08073 0.23561 0.09184 0.22705 0.10347 0.22035 C 0.14913 0.19422 0.19409 0.16462 0.22413 0.11052 C 0.22291 0.10913 0.22187 0.10451 0.221 0.10613 C 0.20972 0.13017 0.20816 0.14474 0.20364 0.16971 C 0.20034 0.22659 0.20121 0.27445 0.24635 0.29225 C 0.25902 0.28948 0.27222 0.28879 0.28455 0.2837 C 0.29809 0.27815 0.33229 0.23861 0.33698 0.23306 C 0.38975 0.16994 0.43194 0.08393 0.44479 -0.00994 C 0.43958 -0.02821 0.44236 -0.03191 0.42899 -0.03538 C 0.40972 -0.03121 0.39305 -0.00532 0.38142 0.01318 C 0.34097 0.07584 0.32621 0.1304 0.31284 0.20971 C 0.31406 0.23584 0.3125 0.26243 0.31632 0.28809 C 0.32014 0.31584 0.346 0.32948 0.36232 0.33873 C 0.37708 0.33665 0.39218 0.33688 0.40677 0.33249 C 0.48211 0.31006 0.53177 0.2178 0.5559 0.1274 C 0.55781 0.09064 0.55989 0.07283 0.53524 0.05133 C 0.52257 0.05341 0.50937 0.05249 0.49722 0.05757 C 0.46788 0.0696 0.44531 0.10104 0.42396 0.1274 C 0.35833 0.20809 0.32691 0.28624 0.29566 0.39584 C 0.29271 0.4215 0.2868 0.46543 0.28611 0.49318 C 0.28593 0.50428 0.28611 0.52486 0.29253 0.53526 C 0.29496 0.53919 0.29878 0.54104 0.30191 0.54382 C 0.32083 0.53457 0.32465 0.52185 0.33507 0.49734 C 0.35781 0.44486 0.36423 0.38728 0.37031 0.32809 C 0.36892 0.30659 0.37812 0.24162 0.34948 0.24162 E">
                                      <p:cBhvr>
                                        <p:cTn id="35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ef4fe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3832200" cy="4038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380880"/>
            <a:ext cx="79246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OU WIN!! YAY!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eaa95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316400" cy="4419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838080" y="228600"/>
            <a:ext cx="7315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ou Los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 rot="20302200">
            <a:off x="533520" y="1066680"/>
            <a:ext cx="4495680" cy="2057400"/>
          </a:xfrm>
          <a:custGeom>
            <a:avLst/>
            <a:gdLst>
              <a:gd name="textAreaLeft" fmla="*/ 133200 w 4495680"/>
              <a:gd name="textAreaRight" fmla="*/ 4362480 w 449568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47194" h="21600">
                <a:moveTo>
                  <a:pt x="0" y="0"/>
                </a:moveTo>
                <a:lnTo>
                  <a:pt x="47194" y="0"/>
                </a:lnTo>
                <a:lnTo>
                  <a:pt x="47194" y="21600"/>
                </a:lnTo>
                <a:lnTo>
                  <a:pt x="0" y="21600"/>
                </a:lnTo>
                <a:close/>
              </a:path>
              <a:path fill="lightenLess" w="47194" h="21600">
                <a:moveTo>
                  <a:pt x="0" y="0"/>
                </a:moveTo>
                <a:lnTo>
                  <a:pt x="47194" y="0"/>
                </a:lnTo>
                <a:lnTo>
                  <a:pt x="45794" y="1400"/>
                </a:lnTo>
                <a:lnTo>
                  <a:pt x="1400" y="1400"/>
                </a:lnTo>
                <a:close/>
              </a:path>
              <a:path fill="darken" w="47194" h="21600">
                <a:moveTo>
                  <a:pt x="47194" y="0"/>
                </a:moveTo>
                <a:lnTo>
                  <a:pt x="47194" y="21600"/>
                </a:lnTo>
                <a:lnTo>
                  <a:pt x="45794" y="20200"/>
                </a:lnTo>
                <a:lnTo>
                  <a:pt x="45794" y="1400"/>
                </a:lnTo>
                <a:close/>
              </a:path>
              <a:path fill="darkenLess" w="47194" h="21600">
                <a:moveTo>
                  <a:pt x="47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794" y="20200"/>
                </a:lnTo>
                <a:close/>
              </a:path>
              <a:path fill="lighten" w="47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99"/>
                </a:solidFill>
                <a:latin typeface="Arial Unicode MS"/>
              </a:rPr>
              <a:t>Play Aga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938000">
            <a:off x="5334120" y="3657240"/>
            <a:ext cx="2743200" cy="1676520"/>
          </a:xfrm>
          <a:custGeom>
            <a:avLst/>
            <a:gdLst>
              <a:gd name="textAreaLeft" fmla="*/ 108360 w 2743200"/>
              <a:gd name="textAreaRight" fmla="*/ 2634840 w 274320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35340" h="21600">
                <a:moveTo>
                  <a:pt x="0" y="0"/>
                </a:moveTo>
                <a:lnTo>
                  <a:pt x="35340" y="0"/>
                </a:lnTo>
                <a:lnTo>
                  <a:pt x="35340" y="21600"/>
                </a:lnTo>
                <a:lnTo>
                  <a:pt x="0" y="21600"/>
                </a:lnTo>
                <a:close/>
              </a:path>
              <a:path fill="lightenLess" w="35340" h="21600">
                <a:moveTo>
                  <a:pt x="0" y="0"/>
                </a:moveTo>
                <a:lnTo>
                  <a:pt x="35340" y="0"/>
                </a:lnTo>
                <a:lnTo>
                  <a:pt x="33940" y="1400"/>
                </a:lnTo>
                <a:lnTo>
                  <a:pt x="1400" y="1400"/>
                </a:lnTo>
                <a:close/>
              </a:path>
              <a:path fill="darken" w="35340" h="21600">
                <a:moveTo>
                  <a:pt x="35340" y="0"/>
                </a:moveTo>
                <a:lnTo>
                  <a:pt x="35340" y="21600"/>
                </a:lnTo>
                <a:lnTo>
                  <a:pt x="33940" y="20200"/>
                </a:lnTo>
                <a:lnTo>
                  <a:pt x="33940" y="1400"/>
                </a:lnTo>
                <a:close/>
              </a:path>
              <a:path fill="darkenLess" w="35340" h="21600">
                <a:moveTo>
                  <a:pt x="353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40" y="20200"/>
                </a:lnTo>
                <a:close/>
              </a:path>
              <a:path fill="lighten" w="353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 Unicode MS"/>
              </a:rPr>
              <a:t>End the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13:58:18Z</dcterms:created>
  <dc:creator>CGB</dc:creator>
  <dc:description/>
  <dc:language>en-US</dc:language>
  <cp:lastModifiedBy>CGB</cp:lastModifiedBy>
  <dcterms:modified xsi:type="dcterms:W3CDTF">2008-06-11T14:09:27Z</dcterms:modified>
  <cp:revision>3</cp:revision>
  <dc:subject/>
  <dc:title>Slide 1</dc:title>
</cp:coreProperties>
</file>